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4.jpeg" ContentType="image/jpeg"/>
  <Override PartName="/ppt/media/image31.jpeg" ContentType="image/jpeg"/>
  <Override PartName="/ppt/media/image25.jpeg" ContentType="image/jpeg"/>
  <Override PartName="/ppt/media/image6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A6DA-5A74-4043-9DD5-8E15EB805C7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4A78-19D5-4F02-950C-0C1FB5336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y Swat Game to check compreh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99C9-676E-473A-945A-D6E7A7561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ents look at blue box p. 7 Ask what is the difference between me gusta/me gustan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402D-042F-4DB1-93C4-E4DDF2855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F0C5-D6BD-4953-9508-518FF425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1C9-28D8-4968-A9A4-D0F6B508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70B-EB9C-489B-A496-4C0D5643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1B5B-8F24-4332-8E8D-35B82CA1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697A-EF1A-43BC-98AE-18145427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867-9DBC-43AE-BEAF-7174CD18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99B-0D2B-4AFD-A734-5D10461C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847D-EF41-4A14-9D42-41DF149C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478-490C-4262-BB70-9747F3A4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FB9-BE2B-455F-8437-9C260CAB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BF3-4914-458B-9317-AABD25AA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00E-2271-411D-8BB9-940E9050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8036-8262-40B8-84CA-E4FE39E733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6603-6896-45E6-87BA-09F3EDA41FF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10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jpeg"/><Relationship Id="rId3" Type="http://schemas.openxmlformats.org/officeDocument/2006/relationships/image" Target="../media/image23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6.jpeg"/><Relationship Id="rId3" Type="http://schemas.openxmlformats.org/officeDocument/2006/relationships/image" Target="../media/image30.jpeg"/><Relationship Id="rId4" Type="http://schemas.openxmlformats.org/officeDocument/2006/relationships/image" Target="../media/image14.jpe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1.jpeg"/><Relationship Id="rId9" Type="http://schemas.openxmlformats.org/officeDocument/2006/relationships/image" Target="../media/image30.jpeg"/><Relationship Id="rId10" Type="http://schemas.openxmlformats.org/officeDocument/2006/relationships/image" Target="../media/image30.jpeg"/><Relationship Id="rId11" Type="http://schemas.openxmlformats.org/officeDocument/2006/relationships/image" Target="../media/image30.jpeg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s.google.co.uk/imgres?imgurl=http://www.worcestershire.gov.uk/home/tourism/mhc-sports-tenburyswimming-pool-2.jpg&amp;imgrefurl=http://www.worcestershire.gov.uk/home/tourism/mhc-sports-tenbury&amp;h=389&amp;w=518&amp;sz=60&amp;hl=en&amp;start=10&amp;tbnid=F6jbMfZEuhSByM:&amp;tbnh=98&amp;tbnw=131&amp;prev=/images?q=swimming+pool&amp;gbv=2&amp;hl=en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rendemos Ho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Qué haces en tu tiempo lib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k about activities that you do in your free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 opinions usin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 gus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http://www.mimifroufrou.com/scentedsalamander/images/Shopping%20Logo%20TSS.jpg"/>
          <p:cNvPicPr/>
          <p:nvPr/>
        </p:nvPicPr>
        <p:blipFill>
          <a:blip r:embed="rId1"/>
          <a:stretch/>
        </p:blipFill>
        <p:spPr>
          <a:xfrm>
            <a:off x="0" y="0"/>
            <a:ext cx="2008080" cy="215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teambath.com/wp-content/uploads/Football%202%20(Small).JPG"/>
          <p:cNvPicPr/>
          <p:nvPr/>
        </p:nvPicPr>
        <p:blipFill>
          <a:blip r:embed="rId2"/>
          <a:stretch/>
        </p:blipFill>
        <p:spPr>
          <a:xfrm>
            <a:off x="6858000" y="304920"/>
            <a:ext cx="18572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Salgo…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I go out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www.redbridge.gov.uk/cms/images/friends%20in%20park.jpg"/>
          <p:cNvPicPr/>
          <p:nvPr/>
        </p:nvPicPr>
        <p:blipFill>
          <a:blip r:embed="rId1"/>
          <a:stretch/>
        </p:blipFill>
        <p:spPr>
          <a:xfrm>
            <a:off x="2714760" y="2071800"/>
            <a:ext cx="2857320" cy="1904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785960" y="44290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algo con mis amigos/ami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Veo…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I watch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285920" y="44290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eo la telev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www.pjwebgraphics.com/paul/images/television.jpg"/>
          <p:cNvPicPr/>
          <p:nvPr/>
        </p:nvPicPr>
        <p:blipFill>
          <a:blip r:embed="rId1"/>
          <a:stretch/>
        </p:blipFill>
        <p:spPr>
          <a:xfrm>
            <a:off x="3429000" y="1714680"/>
            <a:ext cx="16430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¿Qué haces en tu tiempo lib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www1.istockphoto.com/file_thumbview_approve/2772207/2/istockphoto_2772207_the_movies.jpg"/>
          <p:cNvPicPr/>
          <p:nvPr/>
        </p:nvPicPr>
        <p:blipFill>
          <a:blip r:embed="rId1"/>
          <a:stretch/>
        </p:blipFill>
        <p:spPr>
          <a:xfrm>
            <a:off x="785880" y="1500120"/>
            <a:ext cx="1155600" cy="1000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www.mimifroufrou.com/scentedsalamander/images/Shopping%20Logo%20TSS.jpg"/>
          <p:cNvPicPr/>
          <p:nvPr/>
        </p:nvPicPr>
        <p:blipFill>
          <a:blip r:embed="rId2"/>
          <a:stretch/>
        </p:blipFill>
        <p:spPr>
          <a:xfrm>
            <a:off x="7215120" y="5072040"/>
            <a:ext cx="1143000" cy="122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tbn0.google.com/images?q=tbn:F6jbMfZEuhSByM:http://www.worcestershire.gov.uk/home/tourism/mhc-sports-tenburyswimming-pool-2.jpg"/>
          <p:cNvPicPr/>
          <p:nvPr/>
        </p:nvPicPr>
        <p:blipFill>
          <a:blip r:embed="rId3"/>
          <a:stretch/>
        </p:blipFill>
        <p:spPr>
          <a:xfrm>
            <a:off x="4429080" y="3714840"/>
            <a:ext cx="1500120" cy="1122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www.parentingteensblog.com/wp-content/uploads/2007/08/homework5.jpg"/>
          <p:cNvPicPr/>
          <p:nvPr/>
        </p:nvPicPr>
        <p:blipFill>
          <a:blip r:embed="rId4"/>
          <a:stretch/>
        </p:blipFill>
        <p:spPr>
          <a:xfrm>
            <a:off x="2928960" y="557208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_106-1-equitation"/>
          <p:cNvPicPr/>
          <p:nvPr/>
        </p:nvPicPr>
        <p:blipFill>
          <a:blip r:embed="rId5"/>
          <a:stretch/>
        </p:blipFill>
        <p:spPr>
          <a:xfrm>
            <a:off x="6357960" y="1714680"/>
            <a:ext cx="1643040" cy="1083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bl_99765_image"/>
          <p:cNvPicPr/>
          <p:nvPr/>
        </p:nvPicPr>
        <p:blipFill>
          <a:blip r:embed="rId6"/>
          <a:stretch/>
        </p:blipFill>
        <p:spPr>
          <a:xfrm>
            <a:off x="642960" y="2786040"/>
            <a:ext cx="1566720" cy="928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tbn0.google.com/images?q=tbn:JY0zA4972ttCLM:http://www.iusb.edu/~cted/summer/img/Computer.JPG"/>
          <p:cNvPicPr/>
          <p:nvPr/>
        </p:nvPicPr>
        <p:blipFill>
          <a:blip r:embed="rId7"/>
          <a:stretch/>
        </p:blipFill>
        <p:spPr>
          <a:xfrm>
            <a:off x="7358040" y="3214800"/>
            <a:ext cx="106848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http://www.redstormsports.com/media/1/f97583538a2d4d52a1b26ebe762e447a.jpg"/>
          <p:cNvPicPr/>
          <p:nvPr/>
        </p:nvPicPr>
        <p:blipFill>
          <a:blip r:embed="rId8"/>
          <a:stretch/>
        </p:blipFill>
        <p:spPr>
          <a:xfrm>
            <a:off x="5000760" y="2214720"/>
            <a:ext cx="107136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http://www.teambath.com/wp-content/uploads/Football%202%20(Small).JPG"/>
          <p:cNvPicPr/>
          <p:nvPr/>
        </p:nvPicPr>
        <p:blipFill>
          <a:blip r:embed="rId9"/>
          <a:stretch/>
        </p:blipFill>
        <p:spPr>
          <a:xfrm>
            <a:off x="571680" y="5000760"/>
            <a:ext cx="112068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www.republicaupdate.com/images/2007/07/12/imuffs.jpg"/>
          <p:cNvPicPr/>
          <p:nvPr/>
        </p:nvPicPr>
        <p:blipFill>
          <a:blip r:embed="rId10"/>
          <a:stretch/>
        </p:blipFill>
        <p:spPr>
          <a:xfrm>
            <a:off x="5072040" y="5286240"/>
            <a:ext cx="1370160" cy="1071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www.redbridge.gov.uk/cms/images/friends%20in%20park.jpg"/>
          <p:cNvPicPr/>
          <p:nvPr/>
        </p:nvPicPr>
        <p:blipFill>
          <a:blip r:embed="rId11"/>
          <a:stretch/>
        </p:blipFill>
        <p:spPr>
          <a:xfrm>
            <a:off x="2714760" y="2071800"/>
            <a:ext cx="1606320" cy="1071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pjwebgraphics.com/paul/images/television.jpg"/>
          <p:cNvPicPr/>
          <p:nvPr/>
        </p:nvPicPr>
        <p:blipFill>
          <a:blip r:embed="rId12"/>
          <a:stretch/>
        </p:blipFill>
        <p:spPr>
          <a:xfrm>
            <a:off x="2071800" y="4143240"/>
            <a:ext cx="785880" cy="10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p.6 Hablar ejercicio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¡Cuidado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rregular Form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al</a:t>
            </a: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o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</a:t>
            </a: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. 6 Escribir 3 Escribe un texto sobre ti. (3 minuto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199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¿Qué te gusta hacer en tu tiempo libr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1857240" y="392904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0000"/>
                </a:solidFill>
                <a:uFillTx/>
                <a:latin typeface="Calibri"/>
              </a:rPr>
              <a:t>Las opin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upload.wikimedia.org/wikipedia/commons/thumb/8/85/Smiley.svg/800px-Smiley.svg.png"/>
          <p:cNvPicPr/>
          <p:nvPr/>
        </p:nvPicPr>
        <p:blipFill>
          <a:blip r:embed="rId1"/>
          <a:stretch/>
        </p:blipFill>
        <p:spPr>
          <a:xfrm>
            <a:off x="785880" y="5716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4724280" y="838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e gusta(n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://upload.wikimedia.org/wikipedia/commons/thumb/8/85/Smiley.svg/800px-Smiley.svg.png"/>
          <p:cNvPicPr/>
          <p:nvPr/>
        </p:nvPicPr>
        <p:blipFill>
          <a:blip r:embed="rId2"/>
          <a:stretch/>
        </p:blipFill>
        <p:spPr>
          <a:xfrm>
            <a:off x="1285920" y="207180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http://upload.wikimedia.org/wikipedia/commons/thumb/8/85/Smiley.svg/800px-Smiley.svg.png"/>
          <p:cNvPicPr/>
          <p:nvPr/>
        </p:nvPicPr>
        <p:blipFill>
          <a:blip r:embed="rId3"/>
          <a:stretch/>
        </p:blipFill>
        <p:spPr>
          <a:xfrm>
            <a:off x="214200" y="207180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7"/>
          <p:cNvSpPr/>
          <p:nvPr/>
        </p:nvSpPr>
        <p:spPr>
          <a:xfrm>
            <a:off x="4786200" y="2357280"/>
            <a:ext cx="357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e gusta(n) much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upload.wikimedia.org/wikipedia/commons/thumb/8/85/Smiley.svg/800px-Smiley.svg.png"/>
          <p:cNvPicPr/>
          <p:nvPr/>
        </p:nvPicPr>
        <p:blipFill>
          <a:blip r:embed="rId4"/>
          <a:stretch/>
        </p:blipFill>
        <p:spPr>
          <a:xfrm>
            <a:off x="2357280" y="342900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://upload.wikimedia.org/wikipedia/commons/thumb/8/85/Smiley.svg/800px-Smiley.svg.png"/>
          <p:cNvPicPr/>
          <p:nvPr/>
        </p:nvPicPr>
        <p:blipFill>
          <a:blip r:embed="rId5"/>
          <a:stretch/>
        </p:blipFill>
        <p:spPr>
          <a:xfrm>
            <a:off x="1285920" y="342900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://upload.wikimedia.org/wikipedia/commons/thumb/8/85/Smiley.svg/800px-Smiley.svg.png"/>
          <p:cNvPicPr/>
          <p:nvPr/>
        </p:nvPicPr>
        <p:blipFill>
          <a:blip r:embed="rId6"/>
          <a:stretch/>
        </p:blipFill>
        <p:spPr>
          <a:xfrm>
            <a:off x="214200" y="342900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2"/>
          <p:cNvSpPr/>
          <p:nvPr/>
        </p:nvSpPr>
        <p:spPr>
          <a:xfrm>
            <a:off x="4786200" y="3786120"/>
            <a:ext cx="37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e interesa(n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://upload.wikimedia.org/wikipedia/commons/thumb/8/85/Smiley.svg/800px-Smiley.svg.png"/>
          <p:cNvPicPr/>
          <p:nvPr/>
        </p:nvPicPr>
        <p:blipFill>
          <a:blip r:embed="rId7"/>
          <a:stretch/>
        </p:blipFill>
        <p:spPr>
          <a:xfrm>
            <a:off x="1357200" y="50007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upload.wikimedia.org/wikipedia/commons/thumb/8/85/Smiley.svg/800px-Smiley.svg.png"/>
          <p:cNvPicPr/>
          <p:nvPr/>
        </p:nvPicPr>
        <p:blipFill>
          <a:blip r:embed="rId8"/>
          <a:stretch/>
        </p:blipFill>
        <p:spPr>
          <a:xfrm>
            <a:off x="1928880" y="50007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upload.wikimedia.org/wikipedia/commons/thumb/8/85/Smiley.svg/800px-Smiley.svg.png"/>
          <p:cNvPicPr/>
          <p:nvPr/>
        </p:nvPicPr>
        <p:blipFill>
          <a:blip r:embed="rId9"/>
          <a:stretch/>
        </p:blipFill>
        <p:spPr>
          <a:xfrm>
            <a:off x="2500200" y="50007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://upload.wikimedia.org/wikipedia/commons/thumb/8/85/Smiley.svg/800px-Smiley.svg.png"/>
          <p:cNvPicPr/>
          <p:nvPr/>
        </p:nvPicPr>
        <p:blipFill>
          <a:blip r:embed="rId10"/>
          <a:stretch/>
        </p:blipFill>
        <p:spPr>
          <a:xfrm>
            <a:off x="3071880" y="50007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://upload.wikimedia.org/wikipedia/commons/thumb/8/85/Smiley.svg/800px-Smiley.svg.png"/>
          <p:cNvPicPr/>
          <p:nvPr/>
        </p:nvPicPr>
        <p:blipFill>
          <a:blip r:embed="rId11"/>
          <a:stretch/>
        </p:blipFill>
        <p:spPr>
          <a:xfrm>
            <a:off x="3643200" y="50007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http://upload.wikimedia.org/wikipedia/commons/thumb/8/85/Smiley.svg/800px-Smiley.svg.png"/>
          <p:cNvPicPr/>
          <p:nvPr/>
        </p:nvPicPr>
        <p:blipFill>
          <a:blip r:embed="rId12"/>
          <a:stretch/>
        </p:blipFill>
        <p:spPr>
          <a:xfrm>
            <a:off x="214200" y="50007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http://upload.wikimedia.org/wikipedia/commons/thumb/8/85/Smiley.svg/800px-Smiley.svg.png"/>
          <p:cNvPicPr/>
          <p:nvPr/>
        </p:nvPicPr>
        <p:blipFill>
          <a:blip r:embed="rId13"/>
          <a:stretch/>
        </p:blipFill>
        <p:spPr>
          <a:xfrm>
            <a:off x="785880" y="500076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0"/>
          <p:cNvSpPr/>
          <p:nvPr/>
        </p:nvSpPr>
        <p:spPr>
          <a:xfrm>
            <a:off x="4724280" y="5000760"/>
            <a:ext cx="38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e encanta(n)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www.gm-volt.com/wp-content/uploads/2007/03/sad-face.jpg"/>
          <p:cNvPicPr/>
          <p:nvPr/>
        </p:nvPicPr>
        <p:blipFill>
          <a:blip r:embed="rId1"/>
          <a:stretch/>
        </p:blipFill>
        <p:spPr>
          <a:xfrm>
            <a:off x="3429000" y="40006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://www.gm-volt.com/wp-content/uploads/2007/03/sad-face.jpg"/>
          <p:cNvPicPr/>
          <p:nvPr/>
        </p:nvPicPr>
        <p:blipFill>
          <a:blip r:embed="rId2"/>
          <a:stretch/>
        </p:blipFill>
        <p:spPr>
          <a:xfrm>
            <a:off x="2000160" y="2286000"/>
            <a:ext cx="1214640" cy="1214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www.gm-volt.com/wp-content/uploads/2007/03/sad-face.jpg"/>
          <p:cNvPicPr/>
          <p:nvPr/>
        </p:nvPicPr>
        <p:blipFill>
          <a:blip r:embed="rId3"/>
          <a:stretch/>
        </p:blipFill>
        <p:spPr>
          <a:xfrm>
            <a:off x="642960" y="228600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www.gm-volt.com/wp-content/uploads/2007/03/sad-face.jpg"/>
          <p:cNvPicPr/>
          <p:nvPr/>
        </p:nvPicPr>
        <p:blipFill>
          <a:blip r:embed="rId4"/>
          <a:stretch/>
        </p:blipFill>
        <p:spPr>
          <a:xfrm>
            <a:off x="2000160" y="4000680"/>
            <a:ext cx="1214640" cy="12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www.gm-volt.com/wp-content/uploads/2007/03/sad-face.jpg"/>
          <p:cNvPicPr/>
          <p:nvPr/>
        </p:nvPicPr>
        <p:blipFill>
          <a:blip r:embed="rId5"/>
          <a:stretch/>
        </p:blipFill>
        <p:spPr>
          <a:xfrm>
            <a:off x="642960" y="40006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www.gm-volt.com/wp-content/uploads/2007/03/sad-face.jpg"/>
          <p:cNvPicPr/>
          <p:nvPr/>
        </p:nvPicPr>
        <p:blipFill>
          <a:blip r:embed="rId6"/>
          <a:stretch/>
        </p:blipFill>
        <p:spPr>
          <a:xfrm>
            <a:off x="642960" y="64296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9"/>
          <p:cNvSpPr/>
          <p:nvPr/>
        </p:nvSpPr>
        <p:spPr>
          <a:xfrm>
            <a:off x="4929120" y="100008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me gusta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5786280" y="428616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4857840" y="2714760"/>
            <a:ext cx="40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me gusta(n) 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 gusta la fru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ch the video and tell why in some cases they use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e gust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in others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me gust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youtube.com/watch?v=34UXrGMXA9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Me gust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o Me gust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 la hamburgu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 las hamburgue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 los depor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 el fútb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 la música de Lady Ga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 los  có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 los videojue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 la clase de españ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er-Conjugate the verbs in the yo or tú 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213336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blar- 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tar-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ilar-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cuchar-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er-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ber-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cribir-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vir-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43040" y="213336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pronoun I"/>
          <p:cNvPicPr/>
          <p:nvPr/>
        </p:nvPicPr>
        <p:blipFill>
          <a:blip r:embed="rId1"/>
          <a:stretch/>
        </p:blipFill>
        <p:spPr>
          <a:xfrm>
            <a:off x="1523880" y="990720"/>
            <a:ext cx="82728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pronoun you"/>
          <p:cNvPicPr/>
          <p:nvPr/>
        </p:nvPicPr>
        <p:blipFill>
          <a:blip r:embed="rId2"/>
          <a:stretch/>
        </p:blipFill>
        <p:spPr>
          <a:xfrm>
            <a:off x="7086600" y="990720"/>
            <a:ext cx="119556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é te gusta? ¿Qué no te gus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SI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GA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me interesa(n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me gusta(n) :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di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 interesa (n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 gusta(n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 encanta(n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13" descr="heart.gif"/>
          <p:cNvPicPr/>
          <p:nvPr/>
        </p:nvPicPr>
        <p:blipFill>
          <a:blip r:embed="rId1"/>
          <a:stretch/>
        </p:blipFill>
        <p:spPr>
          <a:xfrm>
            <a:off x="2971800" y="3048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heart.gif"/>
          <p:cNvPicPr/>
          <p:nvPr/>
        </p:nvPicPr>
        <p:blipFill>
          <a:blip r:embed="rId2"/>
          <a:stretch/>
        </p:blipFill>
        <p:spPr>
          <a:xfrm>
            <a:off x="3276720" y="396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heart.gif"/>
          <p:cNvPicPr/>
          <p:nvPr/>
        </p:nvPicPr>
        <p:blipFill>
          <a:blip r:embed="rId3"/>
          <a:stretch/>
        </p:blipFill>
        <p:spPr>
          <a:xfrm>
            <a:off x="3962520" y="396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y the correct phrase according to the pictur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8" descr="heart.gif"/>
          <p:cNvPicPr/>
          <p:nvPr/>
        </p:nvPicPr>
        <p:blipFill>
          <a:blip r:embed="rId1"/>
          <a:stretch/>
        </p:blipFill>
        <p:spPr>
          <a:xfrm>
            <a:off x="1371600" y="236232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heart.gif"/>
          <p:cNvPicPr/>
          <p:nvPr/>
        </p:nvPicPr>
        <p:blipFill>
          <a:blip r:embed="rId2"/>
          <a:stretch/>
        </p:blipFill>
        <p:spPr>
          <a:xfrm>
            <a:off x="1371600" y="2895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heart.gif"/>
          <p:cNvPicPr/>
          <p:nvPr/>
        </p:nvPicPr>
        <p:blipFill>
          <a:blip r:embed="rId3"/>
          <a:stretch/>
        </p:blipFill>
        <p:spPr>
          <a:xfrm flipH="1">
            <a:off x="1904760" y="28954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tend you are Luci – tell how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 feel about the following activitie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 la nat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 los videojue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el fútb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 los có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 la música r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X  ______________  los tomat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609480" y="0"/>
            <a:ext cx="1219320" cy="153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heart.gif"/>
          <p:cNvPicPr/>
          <p:nvPr/>
        </p:nvPicPr>
        <p:blipFill>
          <a:blip r:embed="rId2"/>
          <a:stretch/>
        </p:blipFill>
        <p:spPr>
          <a:xfrm>
            <a:off x="1066680" y="21337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heart.gif"/>
          <p:cNvPicPr/>
          <p:nvPr/>
        </p:nvPicPr>
        <p:blipFill>
          <a:blip r:embed="rId3"/>
          <a:stretch/>
        </p:blipFill>
        <p:spPr>
          <a:xfrm>
            <a:off x="990720" y="28195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heart.gif"/>
          <p:cNvPicPr/>
          <p:nvPr/>
        </p:nvPicPr>
        <p:blipFill>
          <a:blip r:embed="rId4"/>
          <a:stretch/>
        </p:blipFill>
        <p:spPr>
          <a:xfrm>
            <a:off x="1371600" y="2819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nectives you can us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mbién-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-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eces-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empre-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nca-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Pairs…take turns saying how you feel about the following (try using the connectives)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música de Justin Bieb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música de Lady Ga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música r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película Harry Potter Número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veget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 hamburguesas de McDona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fútb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voléib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videojue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pick out me gusta phrases in the following song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sta R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youtube.com/watch?v=eD8gkTKApv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same Str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youtube.com/watch?v=zIRHyiuQh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sa me gu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youtube.com/watch?v=8oTvOPbTWx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l your partner 6 different ways to give your opinion about something in Span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y es el ____ de __________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rendemos Ho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Express you opinion using me gusta, me encanta etc. about activities (ver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ea check: Cuaderno B p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MC900116420[1]"/>
          <p:cNvPicPr/>
          <p:nvPr/>
        </p:nvPicPr>
        <p:blipFill>
          <a:blip r:embed="rId1"/>
          <a:stretch/>
        </p:blipFill>
        <p:spPr>
          <a:xfrm>
            <a:off x="6084720" y="3716280"/>
            <a:ext cx="287820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http://upload.wikimedia.org/wikipedia/commons/thumb/8/85/Smiley.svg/800px-Smiley.svg.png"/>
          <p:cNvPicPr/>
          <p:nvPr/>
        </p:nvPicPr>
        <p:blipFill>
          <a:blip r:embed="rId1"/>
          <a:stretch/>
        </p:blipFill>
        <p:spPr>
          <a:xfrm>
            <a:off x="1214280" y="35712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ttp://www1.istockphoto.com/file_thumbview_approve/2772207/2/istockphoto_2772207_the_movies.jpg"/>
          <p:cNvPicPr/>
          <p:nvPr/>
        </p:nvPicPr>
        <p:blipFill>
          <a:blip r:embed="rId2"/>
          <a:stretch/>
        </p:blipFill>
        <p:spPr>
          <a:xfrm>
            <a:off x="5000760" y="357120"/>
            <a:ext cx="1155600" cy="1000080"/>
          </a:xfrm>
          <a:prstGeom prst="rect">
            <a:avLst/>
          </a:prstGeom>
          <a:ln w="0">
            <a:noFill/>
          </a:ln>
        </p:spPr>
      </p:pic>
      <p:sp>
        <p:nvSpPr>
          <p:cNvPr id="174" name="Plus 5"/>
          <p:cNvSpPr/>
          <p:nvPr/>
        </p:nvSpPr>
        <p:spPr>
          <a:xfrm>
            <a:off x="3000240" y="357120"/>
            <a:ext cx="1071720" cy="928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785880" y="135720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 gu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4643280" y="142884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oy al 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qual 9"/>
          <p:cNvSpPr/>
          <p:nvPr/>
        </p:nvSpPr>
        <p:spPr>
          <a:xfrm>
            <a:off x="571680" y="2214720"/>
            <a:ext cx="92844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1714680" y="2143080"/>
            <a:ext cx="37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like I go to the cin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upload.wikimedia.org/wikipedia/commons/thumb/8/85/Smiley.svg/800px-Smiley.svg.png"/>
          <p:cNvPicPr/>
          <p:nvPr/>
        </p:nvPicPr>
        <p:blipFill>
          <a:blip r:embed="rId3"/>
          <a:stretch/>
        </p:blipFill>
        <p:spPr>
          <a:xfrm>
            <a:off x="1000080" y="321480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://www1.istockphoto.com/file_thumbview_approve/2772207/2/istockphoto_2772207_the_movies.jpg"/>
          <p:cNvPicPr/>
          <p:nvPr/>
        </p:nvPicPr>
        <p:blipFill>
          <a:blip r:embed="rId4"/>
          <a:stretch/>
        </p:blipFill>
        <p:spPr>
          <a:xfrm>
            <a:off x="5143680" y="3214800"/>
            <a:ext cx="1155600" cy="1000080"/>
          </a:xfrm>
          <a:prstGeom prst="rect">
            <a:avLst/>
          </a:prstGeom>
          <a:ln w="0">
            <a:noFill/>
          </a:ln>
        </p:spPr>
      </p:pic>
      <p:sp>
        <p:nvSpPr>
          <p:cNvPr id="181" name="Plus 15"/>
          <p:cNvSpPr/>
          <p:nvPr/>
        </p:nvSpPr>
        <p:spPr>
          <a:xfrm>
            <a:off x="2857680" y="3286080"/>
            <a:ext cx="1071360" cy="928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qual 16"/>
          <p:cNvSpPr/>
          <p:nvPr/>
        </p:nvSpPr>
        <p:spPr>
          <a:xfrm>
            <a:off x="928800" y="5286240"/>
            <a:ext cx="92844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7"/>
          <p:cNvSpPr/>
          <p:nvPr/>
        </p:nvSpPr>
        <p:spPr>
          <a:xfrm>
            <a:off x="1714680" y="450072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 gust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Calibri"/>
              </a:rPr>
              <a:t>ir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 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8"/>
          <p:cNvSpPr/>
          <p:nvPr/>
        </p:nvSpPr>
        <p:spPr>
          <a:xfrm>
            <a:off x="2071800" y="5286240"/>
            <a:ext cx="43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lik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Calibri"/>
              </a:rPr>
              <a:t>to go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the cin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9"/>
          <p:cNvSpPr/>
          <p:nvPr/>
        </p:nvSpPr>
        <p:spPr>
          <a:xfrm>
            <a:off x="5929200" y="4714920"/>
            <a:ext cx="164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0"/>
          <p:cNvSpPr/>
          <p:nvPr/>
        </p:nvSpPr>
        <p:spPr>
          <a:xfrm>
            <a:off x="4419720" y="198108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762120" y="685800"/>
          <a:ext cx="8001000" cy="5715000"/>
        </p:xfrm>
        <a:graphic>
          <a:graphicData uri="http://schemas.openxmlformats.org/drawingml/2006/table">
            <a:tbl>
              <a:tblPr/>
              <a:tblGrid>
                <a:gridCol w="2000160"/>
                <a:gridCol w="2001960"/>
                <a:gridCol w="1998360"/>
                <a:gridCol w="200052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s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fin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g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p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go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o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watch/s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atch/s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cu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l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cu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l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w ask your friend if he/she does the activity. He/she answers using the verb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pañ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: ¿Hab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pañol? Sí hab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pañol/No,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hab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pañ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Cantar en la clase de españ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Bailar bi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Escuchar música lat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Comer choco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 Beber coca-co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. Escribir en españ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 Vivir in Tienm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219320" y="214200"/>
          <a:ext cx="6781680" cy="3597480"/>
        </p:xfrm>
        <a:graphic>
          <a:graphicData uri="http://schemas.openxmlformats.org/drawingml/2006/table">
            <a:tbl>
              <a:tblPr/>
              <a:tblGrid>
                <a:gridCol w="1695240"/>
                <a:gridCol w="1695600"/>
                <a:gridCol w="1695240"/>
                <a:gridCol w="169560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s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fin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g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p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go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o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watch/s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atch/s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cu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l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cu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l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89" name="TextBox 2"/>
          <p:cNvSpPr/>
          <p:nvPr/>
        </p:nvSpPr>
        <p:spPr>
          <a:xfrm>
            <a:off x="500040" y="3786120"/>
            <a:ext cx="7715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Voy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a la piscin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 go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the swimming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 gusta </a:t>
            </a: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a la piscin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 like </a:t>
            </a: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to go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the swimming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Escucho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músic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 listen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 me gusta </a:t>
            </a: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escucha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músic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 don’t like </a:t>
            </a: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to listen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3"/>
          <p:cNvSpPr/>
          <p:nvPr/>
        </p:nvSpPr>
        <p:spPr>
          <a:xfrm>
            <a:off x="857160" y="35712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¿ Qué te gusta hacer en tu tiempo lib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://upload.wikimedia.org/wikipedia/commons/thumb/8/85/Smiley.svg/800px-Smiley.svg.png"/>
          <p:cNvPicPr/>
          <p:nvPr/>
        </p:nvPicPr>
        <p:blipFill>
          <a:blip r:embed="rId1"/>
          <a:stretch/>
        </p:blipFill>
        <p:spPr>
          <a:xfrm>
            <a:off x="857160" y="1214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http://www.mimifroufrou.com/scentedsalamander/images/Shopping%20Logo%20TSS.jpg"/>
          <p:cNvPicPr/>
          <p:nvPr/>
        </p:nvPicPr>
        <p:blipFill>
          <a:blip r:embed="rId2"/>
          <a:stretch/>
        </p:blipFill>
        <p:spPr>
          <a:xfrm>
            <a:off x="1785960" y="1071720"/>
            <a:ext cx="1143000" cy="12236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6"/>
          <p:cNvSpPr/>
          <p:nvPr/>
        </p:nvSpPr>
        <p:spPr>
          <a:xfrm>
            <a:off x="3929040" y="135720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 gusta ir de comp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http://www.gm-volt.com/wp-content/uploads/2007/03/sad-face.jpg"/>
          <p:cNvPicPr/>
          <p:nvPr/>
        </p:nvPicPr>
        <p:blipFill>
          <a:blip r:embed="rId3"/>
          <a:stretch/>
        </p:blipFill>
        <p:spPr>
          <a:xfrm>
            <a:off x="714240" y="27147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www.pjwebgraphics.com/paul/images/television.jpg"/>
          <p:cNvPicPr/>
          <p:nvPr/>
        </p:nvPicPr>
        <p:blipFill>
          <a:blip r:embed="rId4"/>
          <a:stretch/>
        </p:blipFill>
        <p:spPr>
          <a:xfrm>
            <a:off x="1785960" y="2500200"/>
            <a:ext cx="785880" cy="10749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9"/>
          <p:cNvSpPr/>
          <p:nvPr/>
        </p:nvSpPr>
        <p:spPr>
          <a:xfrm>
            <a:off x="3929040" y="271476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No me gusta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ver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la 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http://upload.wikimedia.org/wikipedia/commons/thumb/8/85/Smiley.svg/800px-Smiley.svg.png"/>
          <p:cNvPicPr/>
          <p:nvPr/>
        </p:nvPicPr>
        <p:blipFill>
          <a:blip r:embed="rId5"/>
          <a:stretch/>
        </p:blipFill>
        <p:spPr>
          <a:xfrm>
            <a:off x="1785960" y="3929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http://upload.wikimedia.org/wikipedia/commons/thumb/8/85/Smiley.svg/800px-Smiley.svg.png"/>
          <p:cNvPicPr/>
          <p:nvPr/>
        </p:nvPicPr>
        <p:blipFill>
          <a:blip r:embed="rId6"/>
          <a:stretch/>
        </p:blipFill>
        <p:spPr>
          <a:xfrm>
            <a:off x="1071720" y="3929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://upload.wikimedia.org/wikipedia/commons/thumb/8/85/Smiley.svg/800px-Smiley.svg.png"/>
          <p:cNvPicPr/>
          <p:nvPr/>
        </p:nvPicPr>
        <p:blipFill>
          <a:blip r:embed="rId7"/>
          <a:stretch/>
        </p:blipFill>
        <p:spPr>
          <a:xfrm>
            <a:off x="357120" y="3929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http://www.teambath.com/wp-content/uploads/Football%202%20(Small).JPG"/>
          <p:cNvPicPr/>
          <p:nvPr/>
        </p:nvPicPr>
        <p:blipFill>
          <a:blip r:embed="rId8"/>
          <a:stretch/>
        </p:blipFill>
        <p:spPr>
          <a:xfrm>
            <a:off x="2643120" y="3786120"/>
            <a:ext cx="857160" cy="8748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4"/>
          <p:cNvSpPr/>
          <p:nvPr/>
        </p:nvSpPr>
        <p:spPr>
          <a:xfrm>
            <a:off x="3857760" y="3929040"/>
            <a:ext cx="45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 gusta mucho jugar al fú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http://www.gm-volt.com/wp-content/uploads/2007/03/sad-face.jpg"/>
          <p:cNvPicPr/>
          <p:nvPr/>
        </p:nvPicPr>
        <p:blipFill>
          <a:blip r:embed="rId9"/>
          <a:stretch/>
        </p:blipFill>
        <p:spPr>
          <a:xfrm>
            <a:off x="1643040" y="52149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ttp://www.gm-volt.com/wp-content/uploads/2007/03/sad-face.jpg"/>
          <p:cNvPicPr/>
          <p:nvPr/>
        </p:nvPicPr>
        <p:blipFill>
          <a:blip r:embed="rId10"/>
          <a:stretch/>
        </p:blipFill>
        <p:spPr>
          <a:xfrm>
            <a:off x="928800" y="52149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http://www.gm-volt.com/wp-content/uploads/2007/03/sad-face.jpg"/>
          <p:cNvPicPr/>
          <p:nvPr/>
        </p:nvPicPr>
        <p:blipFill>
          <a:blip r:embed="rId11"/>
          <a:stretch/>
        </p:blipFill>
        <p:spPr>
          <a:xfrm>
            <a:off x="214200" y="52149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www.parentingteensblog.com/wp-content/uploads/2007/08/homework5.jpg"/>
          <p:cNvPicPr/>
          <p:nvPr/>
        </p:nvPicPr>
        <p:blipFill>
          <a:blip r:embed="rId12"/>
          <a:stretch/>
        </p:blipFill>
        <p:spPr>
          <a:xfrm>
            <a:off x="2571840" y="5143680"/>
            <a:ext cx="1190520" cy="7855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9"/>
          <p:cNvSpPr/>
          <p:nvPr/>
        </p:nvSpPr>
        <p:spPr>
          <a:xfrm>
            <a:off x="4071960" y="52862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dio hacer mis deb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duce las fra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125360"/>
            <a:ext cx="914400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like going to the cine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really like watching t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love going out with my frie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prefer to play footb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on’t like doing athlet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really don’t like to go shopp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hate doing my home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play tennis but I don’t like playing tenn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bla con tu compañero/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¿Qué te gusta hacer en tu tiempo lib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: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e gust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e encant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me gust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dio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157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¿ Por qué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qual 3"/>
          <p:cNvSpPr/>
          <p:nvPr/>
        </p:nvSpPr>
        <p:spPr>
          <a:xfrm>
            <a:off x="3929040" y="2928960"/>
            <a:ext cx="1214640" cy="6429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571680" y="4143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00040" y="8571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¿Qué te gusta hacer en tu tiempo lib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Me gusta ir al c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¿Por qué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rque es interes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¿Qué no te gusta hacer en tu tiempo lib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Odio hacer mis debe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¿Por qué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rque es aburrid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1571400"/>
            <a:ext cx="307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¿ Por qué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qual 3"/>
          <p:cNvSpPr/>
          <p:nvPr/>
        </p:nvSpPr>
        <p:spPr>
          <a:xfrm>
            <a:off x="3929040" y="1928880"/>
            <a:ext cx="50004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4929120" y="1714680"/>
            <a:ext cx="29289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571680" y="3500280"/>
            <a:ext cx="2786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or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qual 6"/>
          <p:cNvSpPr/>
          <p:nvPr/>
        </p:nvSpPr>
        <p:spPr>
          <a:xfrm>
            <a:off x="3857760" y="3857760"/>
            <a:ext cx="50004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tle 1"/>
          <p:cNvSpPr/>
          <p:nvPr/>
        </p:nvSpPr>
        <p:spPr>
          <a:xfrm>
            <a:off x="5000760" y="3571920"/>
            <a:ext cx="29289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as ra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428760" y="1500120"/>
            <a:ext cx="7929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rque  es…/ Porque no 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an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rat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esant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áci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s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vertid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uen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burrid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r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571680" y="428760"/>
            <a:ext cx="37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jempl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500040" y="492912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46c0a"/>
                </a:solidFill>
                <a:latin typeface="Calibri"/>
              </a:rPr>
              <a:t>Me gusta ir al cine porque es interesante pero es tambien bastante ca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500040" y="157176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Me encanta salir con mis amigos porque es diver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457200" y="2666880"/>
            <a:ext cx="81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me gusta nada hacer mis deberes porque es aburrido y no es diver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500040" y="371484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64a2"/>
                </a:solidFill>
                <a:latin typeface="Calibri"/>
              </a:rPr>
              <a:t>Prefiero jugar al fútbol porque es sano y es muy diver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00040" y="12859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¿Qué te gusta hacer en tu tiempo lib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Me gusta 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¿Por qué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rque es 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¿Qué no te gusta hacer en tu tiempo lib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Odio 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¿Por qué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rque es _________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714240" y="214200"/>
            <a:ext cx="70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bla con tu compañero/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El tiempo lib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¡Cuidad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get a C grade or higher in the GCSE o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amination you MUST give opinions and justify them. For a 4A or higher in Year 8 you must do the s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g.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 like to go to the cinema (opinion) becaus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’s interesting and fun (justifica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se today’s work and the sheet ‘Essenti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ocabulary’ to get into the habit- it will make life easier for you in your assessment next clas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rea para el lu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HW for Monda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 will have a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riting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eaking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sessment next class on Lesson 1 Module 1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level 4A you must do the following as shown on the next 4 slides!!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in the blanks for each check to quiz yourself for the tes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aren’t sure of the answer check your powerpoint notes or pp 6,7 in Mira 2 textboo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-1915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k a friend what he/she does in free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able to say what you do in your fre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connectives like “también, y, a veces, siempre, nun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able to ask someone what they like or don’t lik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 your opinion about certain things using the 6 different ways we learned (be sure to change the ending for singular or plural)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______________________________________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______________________________________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______________________________________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______________________________________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______________________________________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able to justify your opinions us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RQ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rendemos Ho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Qué haces en tu tiempo lib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for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ten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aking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6" descr="http://www.mimifroufrou.com/scentedsalamander/images/Shopping%20Logo%20TSS.jpg"/>
          <p:cNvPicPr/>
          <p:nvPr/>
        </p:nvPicPr>
        <p:blipFill>
          <a:blip r:embed="rId1"/>
          <a:stretch/>
        </p:blipFill>
        <p:spPr>
          <a:xfrm>
            <a:off x="0" y="0"/>
            <a:ext cx="2008080" cy="2151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http://www.teambath.com/wp-content/uploads/Football%202%20(Small).JPG"/>
          <p:cNvPicPr/>
          <p:nvPr/>
        </p:nvPicPr>
        <p:blipFill>
          <a:blip r:embed="rId2"/>
          <a:stretch/>
        </p:blipFill>
        <p:spPr>
          <a:xfrm>
            <a:off x="6858000" y="304920"/>
            <a:ext cx="18572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a Empezar-Traduce las frases al esp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ño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ing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you li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1483920"/>
            <a:ext cx="9144000" cy="51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like the cinema (movi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. I really like T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really don’t like hamburg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hate to do my home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duce las frases al español: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CTIVITI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 lik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341360"/>
            <a:ext cx="9144000" cy="53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like to go to the cine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really like watching (to watch) T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really don’t like to eat hamburg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hate doing (to do) my home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duce al españ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hat do you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in your free ti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 What do you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ike to do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 your free ti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nswer ques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1 en españ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 question #2 en españ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Calibri"/>
              </a:rPr>
              <a:t>¿Qué haces en tu tiempo libre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Written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Speaking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¡No inglé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3" descr="AquiHablamosEspanol.jpg"/>
          <p:cNvPicPr/>
          <p:nvPr/>
        </p:nvPicPr>
        <p:blipFill>
          <a:blip r:embed="rId1"/>
          <a:stretch/>
        </p:blipFill>
        <p:spPr>
          <a:xfrm>
            <a:off x="5257800" y="2743200"/>
            <a:ext cx="297180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 gusta todo de ti (me gustan tus ojos)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youtube.com/watch?v=97rN3FZCDp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 gusta todo de ti- ranch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03j7wTQm7K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 gustas tu (rap song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exis y Fi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l-iIeuFy9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 gustas (Salsa grupo venezola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8oTvOPbTWx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 gustas tu Manu Cha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youtube.com/watch?v=v2oIqlEkX5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2357280" y="28584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Voy…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I g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www1.istockphoto.com/file_thumbview_approve/2772207/2/istockphoto_2772207_the_movies.jpg"/>
          <p:cNvPicPr/>
          <p:nvPr/>
        </p:nvPicPr>
        <p:blipFill>
          <a:blip r:embed="rId1"/>
          <a:stretch/>
        </p:blipFill>
        <p:spPr>
          <a:xfrm>
            <a:off x="857160" y="1214280"/>
            <a:ext cx="2286000" cy="197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tbn0.google.com/images?q=tbn:F6jbMfZEuhSByM:http://www.worcestershire.gov.uk/home/tourism/mhc-sports-tenburyswimming-pool-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3286080"/>
            <a:ext cx="2387520" cy="1785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www.mimifroufrou.com/scentedsalamander/images/Shopping%20Logo%20TSS.jpg"/>
          <p:cNvPicPr/>
          <p:nvPr/>
        </p:nvPicPr>
        <p:blipFill>
          <a:blip r:embed="rId4"/>
          <a:stretch/>
        </p:blipFill>
        <p:spPr>
          <a:xfrm>
            <a:off x="3571920" y="1928880"/>
            <a:ext cx="2008080" cy="2151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857160" y="4000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oy al 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2714760" y="46432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oy de comp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5572080" y="564372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oy a la pisc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Hago…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I do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www.parentingteensblog.com/wp-content/uploads/2007/08/homework5.jpg"/>
          <p:cNvPicPr/>
          <p:nvPr/>
        </p:nvPicPr>
        <p:blipFill>
          <a:blip r:embed="rId1"/>
          <a:stretch/>
        </p:blipFill>
        <p:spPr>
          <a:xfrm>
            <a:off x="500040" y="1428840"/>
            <a:ext cx="1947960" cy="128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p_106-1-equitation"/>
          <p:cNvPicPr/>
          <p:nvPr/>
        </p:nvPicPr>
        <p:blipFill>
          <a:blip r:embed="rId2"/>
          <a:stretch/>
        </p:blipFill>
        <p:spPr>
          <a:xfrm>
            <a:off x="3143160" y="2357280"/>
            <a:ext cx="2381400" cy="1571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bl_99765_image"/>
          <p:cNvPicPr/>
          <p:nvPr/>
        </p:nvPicPr>
        <p:blipFill>
          <a:blip r:embed="rId3"/>
          <a:stretch/>
        </p:blipFill>
        <p:spPr>
          <a:xfrm>
            <a:off x="6286680" y="2928960"/>
            <a:ext cx="2530440" cy="15001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1"/>
          <p:cNvSpPr/>
          <p:nvPr/>
        </p:nvSpPr>
        <p:spPr>
          <a:xfrm>
            <a:off x="285840" y="3071880"/>
            <a:ext cx="27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ago mis deb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2928960" y="435780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ago equi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6000840" y="4929120"/>
            <a:ext cx="27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ago atlet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Juego…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I play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tbn0.google.com/images?q=tbn:JY0zA4972ttCLM:http://www.iusb.edu/~cted/summer/img/Computer.JPG"/>
          <p:cNvPicPr/>
          <p:nvPr/>
        </p:nvPicPr>
        <p:blipFill>
          <a:blip r:embed="rId1"/>
          <a:stretch/>
        </p:blipFill>
        <p:spPr>
          <a:xfrm>
            <a:off x="785880" y="1428840"/>
            <a:ext cx="1468440" cy="1571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http://www.redstormsports.com/media/1/f97583538a2d4d52a1b26ebe762e447a.jpg"/>
          <p:cNvPicPr/>
          <p:nvPr/>
        </p:nvPicPr>
        <p:blipFill>
          <a:blip r:embed="rId2"/>
          <a:stretch/>
        </p:blipFill>
        <p:spPr>
          <a:xfrm>
            <a:off x="3214800" y="2143080"/>
            <a:ext cx="1860480" cy="168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http://www.teambath.com/wp-content/uploads/Football%202%20(Small).JPG"/>
          <p:cNvPicPr/>
          <p:nvPr/>
        </p:nvPicPr>
        <p:blipFill>
          <a:blip r:embed="rId3"/>
          <a:stretch/>
        </p:blipFill>
        <p:spPr>
          <a:xfrm>
            <a:off x="6072120" y="2928960"/>
            <a:ext cx="1857600" cy="1895400"/>
          </a:xfrm>
          <a:prstGeom prst="rect">
            <a:avLst/>
          </a:prstGeom>
          <a:ln w="0">
            <a:noFill/>
          </a:ln>
        </p:spPr>
      </p:pic>
      <p:sp>
        <p:nvSpPr>
          <p:cNvPr id="81" name="TextBox 6"/>
          <p:cNvSpPr/>
          <p:nvPr/>
        </p:nvSpPr>
        <p:spPr>
          <a:xfrm>
            <a:off x="285840" y="3286080"/>
            <a:ext cx="23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uego con mi orden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3071880" y="4000680"/>
            <a:ext cx="23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uego al balonc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000840" y="5214960"/>
            <a:ext cx="23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uego al fút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Escucho…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I listen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www.republicaupdate.com/images/2007/07/12/imuffs.jpg"/>
          <p:cNvPicPr/>
          <p:nvPr/>
        </p:nvPicPr>
        <p:blipFill>
          <a:blip r:embed="rId1"/>
          <a:stretch/>
        </p:blipFill>
        <p:spPr>
          <a:xfrm>
            <a:off x="2928960" y="1785960"/>
            <a:ext cx="2936880" cy="2295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1500120" y="450072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scucho mús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0:30:13Z</dcterms:created>
  <dc:creator>RACHEL</dc:creator>
  <dc:description/>
  <dc:language>en-US</dc:language>
  <cp:lastModifiedBy>Mac</cp:lastModifiedBy>
  <cp:lastPrinted>2011-09-23T10:49:32Z</cp:lastPrinted>
  <dcterms:modified xsi:type="dcterms:W3CDTF">2011-10-10T23:31:25Z</dcterms:modified>
  <cp:revision>65</cp:revision>
  <dc:subject/>
  <dc:title>El tiempo libre</dc:title>
</cp:coreProperties>
</file>